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3CF-B5A2-4B1E-A0BE-BE092D5F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E08-6D9F-4F21-8649-1F23FEC2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EA4-3F19-4EA2-A74E-71EABEEA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6EB-FC6E-4CAE-B0A7-EDBE600F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DA1-D269-4C0A-9D0D-7174536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BC0-1173-4BBC-9FDA-CFF7DDD6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E95-F42A-4A33-81FE-E5EAF6E1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63F-0AD9-4168-A049-9F857F44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A9A-6DE4-46A0-BD28-0137F13B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993-09D6-4B7A-8BE8-F05ED42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158-AFE9-4DB6-9EB2-99C96E46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397-5DE9-4399-ACE7-C6A93619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%A8&amp;in=26487&amp;cl=2&amp;cm=1&amp;sc=0&amp;lm=-1&amp;pn=171&amp;rn=1&amp;di=1181909088&amp;ln=200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ews3.xinhuanet.com/employment/2005-09/20/content_3515052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zhaoni.cn/f/read_104_21476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lkxx.com/study/jiuye/jiuyezhidao/200509/study_20050919152208_3.ht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&#764;&#701;%BB%CD%F9&amp;in=2514&amp;cl=2&amp;cm=1&amp;sc=0&amp;lm=-1&amp;pn=11&amp;rn=1&amp;di=773608012&amp;ln=1649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.baidu.com/i?ct=503316480&amp;z=0&amp;tn=baiduimagedetail&amp;word=%C8&#764;&#701;%BB%CD%F9&amp;in=8853&amp;cl=2&amp;cm=1&amp;sc=0&amp;lm=-1&amp;pn=15&amp;rn=1&amp;di=2291895576&amp;ln=1649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.baidu.com/i?ct=503316480&amp;z=0&amp;tn=baiduimagedetail&amp;word=%C8&#764;&#701;%BB%CD%F9&amp;in=20926&amp;cl=2&amp;cm=1&amp;sc=0&amp;lm=-1&amp;pn=258&amp;rn=1&amp;di=1374575328&amp;ln=1649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2.sepa.gov.cn/zryh/364510094840299520/20050929/11676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tupianz.com/sucai/shangwu/woshou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E%D5%CA%D6+%C0%F1%D2%C7&amp;in=4&amp;cl=2&amp;cm=1&amp;sc=0&amp;lm=-1&amp;pn=3&amp;rn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.baidu.com/i?ct=503316480&amp;z=0&amp;tn=baiduimagedetail&amp;word=%CE%D5%CA%D6+%C0%F1%D2%C7&amp;in=8&amp;cl=2&amp;cm=1&amp;sc=0&amp;lm=-1&amp;pn=7&amp;rn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hotproducts.gslcbs.com.cn/company/i2798056-&#23075;&#21342;&#28279;&#29999;&#20634;&#31629;&#28598;&#1091;&#31387;&#28729;&#28848;&#31519;&#37832;&#22800;&#27322;&#37711;&#57600;&#24451;.html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ywnews.cn/20050401/ca31867.htm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news.sohu.com/20050322/n224808371.s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684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Rounded MT Bold"/>
              </a:rPr>
              <a:t>请判断正误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.TP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原则就是要求大家在着装时，应考虑到时间、地点和出席活动的目的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在正式的商务场合，注视的位置是以两眼为上限，以唇部为底线的部位，构成一个倒三角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男士无论在什么样的场合下都不宜斜靠在门边或靠墙站立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男士在穿西装时，为了避免过于死板，可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粒扣西装的上面一颗扣子解开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男士穿西装时，衬衣的袖扣可以不用扣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在礼仪场合，女士不能赤足穿鞋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为了与套裙相配，女士要穿着皮鞋，皮鞋的鞋跟高度最好不超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590920" y="1676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22960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41008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9718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724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1337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6248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第一节  称呼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8284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1" name="Picture 5" descr="http://p3.so.qhmsg.com/bdr/_240_/t01ee0e097afd2ae7d8.jpg"/>
          <p:cNvPicPr/>
          <p:nvPr/>
        </p:nvPicPr>
        <p:blipFill>
          <a:blip r:embed="rId1"/>
          <a:stretch/>
        </p:blipFill>
        <p:spPr>
          <a:xfrm>
            <a:off x="1676520" y="1828800"/>
            <a:ext cx="60195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4" name="Picture 2" descr="http://p4.so.qhimgs1.com/bdr/_240_/t01f9f4f3097b8ef5fa.jpg"/>
          <p:cNvPicPr/>
          <p:nvPr/>
        </p:nvPicPr>
        <p:blipFill>
          <a:blip r:embed="rId1"/>
          <a:stretch/>
        </p:blipFill>
        <p:spPr>
          <a:xfrm>
            <a:off x="457200" y="152280"/>
            <a:ext cx="8001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一、姓名的种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第一类：前姓后名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主要有亚洲一些国家，如中国、日本、韩国等，欧洲的匈牙利也同样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但</a:t>
            </a:r>
            <a:r>
              <a:rPr b="1" lang="zh-CN" sz="2800" spc="-1" strike="noStrike">
                <a:solidFill>
                  <a:srgbClr val="333399"/>
                </a:solidFill>
                <a:latin typeface="Arial Rounded MT Bold"/>
              </a:rPr>
              <a:t>日本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的妇女婚前使用父姓，婚后使用夫姓，本人名字则不变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 Rounded MT Bold"/>
              </a:rPr>
              <a:t>香港、台湾等地区的女士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也有些结婚后，将夫姓加在自己姓名前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二类：前名后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主要是英国、美国等英语国家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法国人的姓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般由两节或三节组成，前一、二节为个人名字，最后一节为姓；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西班牙人的姓名常由三到四节组成，前一、二节为本人名字，倒数第二节为父姓，最后一节为母姓；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俄罗斯人姓名由三节组成，分别为名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父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姓；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阿拉伯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的姓名由四节组成，分别为本人名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父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祖父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姓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另外，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泰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等国家的姓名也是名字在前、姓氏在后的排列顺序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684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第三类：有名无姓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姓名结构只有名而无姓的人以缅甸、印度尼西亚等国为多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常见缅甸人名字前的“吴”不是姓，而是一种尊称，是“先生”的意思；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缅甸人名字前常冠以表示性别、长幼、地位的字和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如“杜”意为女士，“玛”意为姐妹，“郭”意为平辈，“哥”意为兄弟，“波”意为军官，“塞耶”意为老师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如一个缅甸男子名“刚”，同辈称他为“哥刚”，如果有一定社会地位的被称为“吴刚”，如果是军官，则被称为“波刚”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二、称呼的种类与用法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16765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．泛尊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这种称呼几乎适合于所有社交场合，对男子一般称“先生”，对女子称“夫人”、“小姐”、“女士”。在一些国家，“阁下”一词也可以作为泛尊称使用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泛尊称可以同姓名、姓氏和行业性称呼分别组合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起，并在正式场合使用。比如：“克林顿先生”、“玛格丽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撒切尔夫人”、“上校先生”、“秘书小姐”等等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u=503077645,1337551127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72428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．职务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公务活动中，可以对方的职务相称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如，“部长”、“经理”、“处长”、‘校长”等等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职务性称呼还可以同泛尊称、姓名、姓氏分别组合在一起使用。例如，“王经理”、“李校长”、“部长先生”等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职务高的官方人士，如部长以上的高级官员，不少国家可称“阁下”，“总统阁下”、“大使先生阁下”，对有高级官衔的妇女，也可称“阁下”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．职衔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交往对象拥有社会上受尊重的学位、学术性职称、专业技术职称、军衔和爵位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可以“博士”、“教授”、“律师”、“法官”、“将军”、“公爵”等称呼相称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职衔性称呼还可以同姓名、姓氏和泛尊称分别组合在一起使用，例如：“乔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歇尔教授”、“卡特博士”、“法官先生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．职业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不同行业的人士，可以对方的职业作为称呼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如：“老师”、“教练”、“警官”、“医生”等等。对商界和服务业从业人员，一般约定俗成地按性别不同分别称为“小姐”、“先生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．姓名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一般性场合，彼此比较熟悉的人之间，可以直接称呼他人的姓名或姓氏。例如，“乔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史密斯”、“张志刚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人为表示亲切，还习惯在被称呼者的姓前面加上“老”、“大”或“小”等字，而免称其名，如“老王”、“小张”。更加亲密者，往往不称其姓，而直呼其名，如“志刚”、“卫东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实践练习：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160" y="114300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以小组为单位制作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，每组派一位同学为大家进行讲解。要求每部分内容讲解时间不少于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见面礼仪（握手礼、贴面礼、吻手礼等）（潘茜茜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名片礼仪</a:t>
            </a: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+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方位礼仪（唐小雁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接待礼仪（王昕雷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谈判礼仪 （王娜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商务宴请礼仪（曹雨婷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签约仪式（戎嘉妮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 Rounded MT Bold"/>
              </a:rPr>
              <a:t>、剪彩仪式（高小康小组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049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．特殊性的称呼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于君主制国家的王室成员和神职人员应该用专门的称呼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如，在君主国家，应称国王或王后为“陛下”；称王子、公主、亲正等为“殿下”；有爵位的应称爵位或“阁下”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神职人员应根据其身份称为“教皇”、“主教”、“神父”、“牧师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以上常用的称呼外，在交往中，还有以“你”、“您”相称的“代词称”和亲属之间的“亲属称”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三、称呼的禁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339920"/>
            <a:ext cx="51814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错误的称呼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称呼对方时，记不起对方的姓名或张冠李戴，叫错对方的姓名，是社交中的大忌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9" name="Picture 5" descr="http://p0.so.qhimgs1.com/bdr/_240_/t01bc03f61a6bc8dd7c.jpg"/>
          <p:cNvPicPr/>
          <p:nvPr/>
        </p:nvPicPr>
        <p:blipFill>
          <a:blip r:embed="rId1"/>
          <a:stretch/>
        </p:blipFill>
        <p:spPr>
          <a:xfrm>
            <a:off x="5867280" y="1676520"/>
            <a:ext cx="327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易产生误会的称呼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论是自称还是称呼他人，要注意不要使用让对方产生误会的称呼，如“爱人”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同志”、“老人家”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3" name="Picture 4" descr="xinsrc_0520902200930856283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带有歧视、侮辱性的称呼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正式场合，不要使用低级、庸俗的称呼或用绰号作称呼。如“哥们儿”、“姐们儿”、“死党”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论在任何情况下，绝不能使用歧视性、侮辱性的称呼。 （残疾人、盲人）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7" name="Picture 4" descr="214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85345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0" name="Picture 4" descr="200509191525493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280"/>
            <a:ext cx="8382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案   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295280"/>
            <a:ext cx="8426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不当的称呼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　　小宋今年刚参加工作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年轻的她工作干劲十足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待人也很真诚。对每个同事前辈都很友善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在公司里总是“王姐”“张哥”等亲热地叫着。某一天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小宋陪同客户经理王经理参加了公司同客户的见面会。其间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小宋也像往常一样称呼王经理为“王姐”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忙前忙后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自认为圆满完成了任务。但会后王经理却严肃地对小宋提出了批评意见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指出她在客户面前表现欠妥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小宋疑惑不解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　　资料来源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杜汉明主编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《商务礼仪》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高等教育出版社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2010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年版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　　问题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小宋哪里出了问题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网络搞笑称呼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常常趁火打劫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土匪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她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压寨夫人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脸上沟壑分明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作战地图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战地指挥员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长相惨不忍睹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车祸现场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救死扶伤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娘娘腔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东方不败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笑傲江湖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爱管闲事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莫须有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满江红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脾气火暴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霹雳雷火弹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忍者神龟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一个男生死气沉沉，我们就叫他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敦煌石窟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和他在一起的女生，我们叫她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古墓丽影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77104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Black"/>
              </a:rPr>
              <a:t>第三章 日常交往礼仪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3" descr="u=311346526,3180288653&amp;fm=0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373392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u=2440173217,906638574&amp;fm=0&amp;gp=-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7339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u=2724098997,1509035765&amp;fm=0&amp;gp=2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3733920"/>
            <a:ext cx="19810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二节  握手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7440" y="174636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一、握手的时机与场合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二、握手的顺序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三、握手的姿态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四、握手的禁忌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28600" y="8380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握手是日常交往的一般礼节，多用于见面时的问候与致意；也多用于致谢与祝愿。这是世界各国通行的礼节。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0" name="Picture 3" descr="5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762120"/>
            <a:ext cx="4419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14040" y="1339920"/>
            <a:ext cx="71629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思考问题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你看来，在什么场合下要和对方握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一、握手的时机和场合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遇到较长时间未曾谋面的熟人，应与其握手，以示为久别重逢而万分欣喜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被介绍与人相识，双方互致问候时，应握手致意，表示为相识而感到荣幸与高兴，愿与对方建立友谊与联系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当对方取得很大的成绩或重大的成果、获得奖赏、被授予荣誉称号或有其他喜事时，见面应与之握手以表示祝贺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自己领取奖品时，应与发奖者握手以表示感谢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向他人表示恭喜、祝贺之时，如祝贺结婚、生子、升学、乔迁、事业成功或获得荣誉、嘉奖时，应与之握手，以示贺喜之诚意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应邀参加社交活动，如宴会、舞会、音乐会前后，应与主人握手，以示谢意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参加友人、同事或上下级的家属追悼会，在离别时，应和死者的主要亲属握手，表示劝慰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二、握手的次序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在会展接待中，握手时最为重要的是握手的双方应当由谁先伸出手来握手。握手的先后次序应符合礼仪规范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．一般情况的规定：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年长者与年幼者握手，应由年长者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长辈与晚辈握手，应由长辈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老师与学生握手，应由老师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女士与男士握手，应由女士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已婚者与未婚者握手，应由已婚者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社交场合的先到者与后来者握手，应由先到者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上级与下级握手，应由上级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职位、身份高者与职位、身份低者握手，应由职位、身份高者首先伸出手来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5" name="Picture 3" descr="009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666880"/>
            <a:ext cx="1752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．特殊情况的规定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当一个人需要与多人握手时，应讲究先后次序，由尊而卑，即先年长者后年幼者，先长辈后晚辈，先老师后学生，先女士后男士，先已婚者后未婚者，先上级后下级，先职位、身份高者后职位、身份低者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在接待来访者时，应由主人首先伸出手来与客人相握。而在客人告辞时，则应由客人首先伸出手来与主人相握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8" name="Picture 3" descr="u=1553962228,3387289561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838080"/>
            <a:ext cx="3962160" cy="5486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u=2855879675,655063027&amp;gp=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14300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三、握手的姿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362320" y="1371240"/>
            <a:ext cx="58672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握手必须用右手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握手要热情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握手要注意力度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握手应注意时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秒以内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906200" y="1339920"/>
            <a:ext cx="53341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角色扮演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男性与女性握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领导和下属握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160" y="304920"/>
            <a:ext cx="8381880" cy="62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握手小常识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被拒绝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有的时候，你很热情地伸出手去，而对方却没有呼应，让你很尴尬。此时，你只需把手收回来，接着谈话就是了，不必影响自己的情绪，这是对方的错，不是你的问题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死鱼式的握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方的手虽然伸了出来，但握上去是僵硬的、没有回应，像握着一条死鱼。这时你应该同样热情地握上一握，然后松开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拥抱式握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指用自己的双手握住对方的手。这在表示感激、老友重逢等场合是很自然的情感流露。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当老人或贵宾向你伸手时，可以双手握对方的手，同时致以问候。在商业活动中，一般不使用这种握手的方式，因为这样显得过分谦恭，无形中降低了自己的地位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4" name="Picture 3" descr="铃铛2"/>
          <p:cNvPicPr/>
          <p:nvPr/>
        </p:nvPicPr>
        <p:blipFill>
          <a:blip r:embed="rId1"/>
          <a:stretch/>
        </p:blipFill>
        <p:spPr>
          <a:xfrm>
            <a:off x="76320" y="152280"/>
            <a:ext cx="1260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花预览图 点击看大图"/>
          <p:cNvPicPr/>
          <p:nvPr/>
        </p:nvPicPr>
        <p:blipFill>
          <a:blip r:embed="rId1"/>
          <a:stretch/>
        </p:blipFill>
        <p:spPr>
          <a:xfrm>
            <a:off x="4332240" y="228600"/>
            <a:ext cx="481176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目　　录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560" y="1219320"/>
            <a:ext cx="41893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一节  称呼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二节  握手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三节  介绍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四节  名片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五节  方位礼仪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四、握手的禁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3000" y="13712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忌不讲先后顺序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遵照长者优先、女士优先、职位高者优先。如果是两对夫妻见面，先是女性相互致意，然后男性分别向对方的妻子致意，最后是男性相互致意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忌戴手套握手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女士的手套是其服装的组成部分，允许戴着手套和他人握手，但男士必须在与他人握手前脱下手套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忌用左手握手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尤其是在涉外场合，不要用左手与对方相握，因为有些国家比如阿拉伯国家，还有一些信仰穆斯林教的教徒，他们普遍认为左手是不洁的，不能随便碰其他人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四、握手的禁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2949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忌握手时身体其他部分行为不规范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如握手时将另外一只手插在衣袋里；握手时另外一只手依旧拿着香烟等不放下；握手时东张西望，左顾右盼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忌交叉握手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基督教徒忌讳交叉握手，因为交叉握手时形成的十字架图案被认为是很不吉利的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忌握手时手部不洁净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对方握手之前，应该保持手部的洁净，手部粘着灰尘或很脏，都是对对方的不尊重。同时避免与他人握手后用手帕擦手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三节  介绍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66520" y="1981080"/>
            <a:ext cx="35067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一、自我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二、为他人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三、为集体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一、自我介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需要自我介绍的场合很多，例如，独自去拜访或接待客人、自我推荐等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例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你好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!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我叫何业，是大同广告公司公关部的经理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自我介绍时要充满自信，眼睛注视对方，吐字清晰，面带微笑。自我介绍时间最好控制在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一分钟左右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0880" y="9144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二、介绍他人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介绍他人，是通过第三方为陌生的双方之间引见的一种方式，第三者便为介绍者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介绍者应熟悉双方的情况，如可能应征求双方的意见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“李总经理，是否愿意认识一下赵林先生？他是前锋制药有限公司的副总经理。”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一般说，不必把职位很低的人介绍给身居高位的人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为他人介绍时，应讲究介绍顺序。目前国际公认的介绍顺序应该本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让尊者优先了解对方情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的原则来定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一般是：先把男性介绍给女性，把年轻人介绍给老年人，把社会地位低者介绍给地位高者，把客人介绍给主人，把未婚者介绍给已婚者，把和自己关系密切的一方介绍给另一方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特殊情况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、一位年轻的女士前来拜访一位比她年长很多的男士，应将女士介绍给年长的男性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在公务活动中，是以职位的高低来决定介绍顺序的，而不考虑性别和年龄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5331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微型案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介绍人的介绍用语可以是很正规的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如：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请允许我来介绍，李小姐，这位是凯地公司销售部经理唐特先生；唐先生，这位是玫黎化妆品有限公司总经理李枫小姐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在非正式场合，介绍语可以比较随便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如：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陶明明，这是我的同事张扬，她的现代舞跳得非常好；小张，这是我中学的同学陶明明，也是一位舞蹈爱好者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三、为集体介绍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将一人介绍给大家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被介绍者双方地位、身份大致相似，或者难以确定时，应使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人礼让多数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人数较少的一方礼让人数较多的一方，先介绍一人或人数少的一方，后介绍人数较多的一方或多数人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将大家介绍给一人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被介绍者在地位、身份之间存在明显差异，特别是当这些差异表现为年龄、性别、婚否、师生以及职务有别时，地位、身份明显高者即使人数较少，甚至仅为一人，仍然应被置于尊贵的位置，先向其介绍人数多的一方，再介绍地位、身份高的一方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通过本章学习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你应能够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知识目标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掌握日常交往礼仪的原则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技能目标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正确使用称呼礼仪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掌握握手礼仪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会自我介绍与介绍他人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掌握名片的礼仪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正确使用方位礼仪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人数较多的双方介绍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需要介绍的一方人数不止一人，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采取笼统的方法进行介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如可以说：“这是我的家人”，“她们都是我的同事”等等。如有必要，可以一一进行介绍。进行此种介绍时，可按位次尊卑顺序进行介绍。先介绍位卑的一方，后介绍位尊的一方；或先介绍主方，后介绍客方的顺序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四节  名片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057040" y="1828800"/>
            <a:ext cx="495468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一、名片概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二、名片的内容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三、使用名片的方法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四、索要名片的方法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五、使用名片应注意的问题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一、名片概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3" descr="2006725151953984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752480"/>
            <a:ext cx="3657600" cy="472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pic_32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1752480"/>
            <a:ext cx="4495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名片：自我的介绍信、社交的联谊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在现代生活中，不会使用名片的人往往是没有交际经验的人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49" name="Picture 5" descr="http://p4.so.qhimgs1.com/bdr/_240_/t01da6f7776b64ee73a.jpg"/>
          <p:cNvPicPr/>
          <p:nvPr/>
        </p:nvPicPr>
        <p:blipFill>
          <a:blip r:embed="rId1"/>
          <a:stretch/>
        </p:blipFill>
        <p:spPr>
          <a:xfrm>
            <a:off x="457200" y="3657600"/>
            <a:ext cx="4962600" cy="3048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ttp://p1.so.qhmsg.com/bdr/_240_/t014aa3daa47e4b1016.jpg"/>
          <p:cNvPicPr/>
          <p:nvPr/>
        </p:nvPicPr>
        <p:blipFill>
          <a:blip r:embed="rId2"/>
          <a:stretch/>
        </p:blipFill>
        <p:spPr>
          <a:xfrm>
            <a:off x="5638680" y="3454560"/>
            <a:ext cx="32482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名片的材质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卡片纸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最好不要制作黄金名片、白金名片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木制名片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塑料名片、光纤名片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名片的大小：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5.5*9C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名片的色彩：  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控制在三种颜色之内，白色、浅灰色、浅蓝、浅黄等浅色较合适，大红色等艳丽色彩不适宜使用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Rounded MT Bold"/>
              </a:rPr>
              <a:t>注意避免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有职务无名字、有照片、名言警句、只有名字                        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二、名片的内容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3520" y="1295280"/>
            <a:ext cx="2971800" cy="152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归属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位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在部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徽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480" y="2971800"/>
            <a:ext cx="3200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姓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政职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术职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5410080" y="4952880"/>
            <a:ext cx="33530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联系方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电子邮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办公电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手机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在公关交往中，名片也是自己的门面，一张形象效果俱佳的名片应包括以下几项内容：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姓名、职务、公司名称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．公司标志，商标或公司的徽记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公司地址、电话号码、传真号码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．背面印上经营范围、项目等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如果有必要，可在名片上印上其他办事处的地址及联系方式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．也可以在上面印上家庭电话号码，但不是非有不可的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．在涉外交往中须用两种语言印制名片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320" y="1339920"/>
            <a:ext cx="71629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年后的自己设计一张名片。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三、名片使用的要点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名片应双手呈递，接名片的态度一定要恭敬，使对方感到你对他的名片很感兴趣。接受对方的名片后，不可以立刻放到自己口袋里，而应首先表示谢意，然后再看清楚对方的姓名。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原则：地位低者先向地位高的人递送名片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5335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来访者应先递上名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然后，接待者回赠名片。要双手拿着名片齐胸递接，若双方同时交换名片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则应右手递，左手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如遇自己名片正好用完，无法回赠对方时，可说明原因，表示歉意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要妥善收好名片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可以放入上衣内侧口袋里或放入名片夹中、手提包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也可以暂时摆在桌面显眼位置，但不要在名片上放任何物品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案例：拿破仑是这样记住对方名字的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　　传说，拿破仑三世曾得意地说，即使他日理万机，仍然能够记得他所认识的人。他的方法非常简单，如果他没有清楚地听到对方的名字，就说：“抱歉，没听清楚。”如果碰到一个不寻常的名字，他就问：“怎么写？“在谈话当中，他会把那个人的名字重复说几次，试着在心中把它跟那个人的特征、表情和容貌联想在一起。假若对方是个重要的人物，他就把那个人的名字写在一张纸上，仔细看看，聚精会神地记在心里，然后把那张纸撕掉。这样做，他对那个名字就不仅有声音的印象，还有容貌的印象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　问题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你会在日常生活中用怎样的方法记住别人的名字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在涉外交往时，递送名片时要把印有当地语言的一面向上。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在中东、东南亚和非洲要用右手递、收名片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，这是因为在他们的观念里左手是不洁的。在中国、日本以及新加坡用双手以示尊敬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．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对方人较多时，应从领导开始交换名片。顺时针方向递出去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人数较多的平级同事之间，递送名片应遵守就近原则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762120"/>
            <a:ext cx="853452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四、索要名片的三种方法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、交易法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主动把自己的名片递给对方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、明示法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老王，很长时间没见了，我们交换一下名片吧，这样以后方便联系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、谦恭法：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 恭维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不知道以后有没有机会向您请教？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五、交换名片时应注意的问题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三不准”原则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 Rounded MT Bold"/>
              </a:rPr>
              <a:t>、不准随意涂改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 Rounded MT Bold"/>
              </a:rPr>
              <a:t>、不准提供两个以上的头衔、职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 Rounded MT Bold"/>
              </a:rPr>
              <a:t>、涉外活动中，不准提供私宅的电话或联系方式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5331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Rounded MT Bold"/>
              </a:rPr>
              <a:t>交换名片应注意以下问题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名片要放在恰当易取的地方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接过别人递送过来的名片应仔细看一眼，切忌一眼不看便随手放在一边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切忌看过后用手玩弄他人的名片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切忌随意乱发名片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随身携带的名片应使用较精致的名片夹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如果事先约好的面谈或双方都彼此了解，不要忙着交换名片，可以在面谈结束时再交换名片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对方递给你名片时，若自己没带名片时要表示歉意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68" name="Picture 3" descr="铃铛2"/>
          <p:cNvPicPr/>
          <p:nvPr/>
        </p:nvPicPr>
        <p:blipFill>
          <a:blip r:embed="rId1"/>
          <a:stretch/>
        </p:blipFill>
        <p:spPr>
          <a:xfrm>
            <a:off x="7620120" y="380880"/>
            <a:ext cx="12207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第五节    方位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左右位置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国际通行的礼节是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以右为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”。让长辈、职位高者、客人、女士等尊者行立坐在晚辈、职位低者、主人、男士等的右侧，以体现出尊重与重视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一）行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在需要并排行走时，让身份高的人，客人走在身份低的人、主人的右侧。例如，秘书和他的上司一起走，就要让上司走在秘书的右侧。主人与客人一起行走，要让客人走在右侧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二）一般的座次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在许多人并排而坐的时候，主人应该请客人坐在他的右边。在电视里，我们经常看到我国领导人接见外国来宾的镜头，座位安排就是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让外宾坐在东道主的右侧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。除此之外，男女两性交往时，为了表示对女性的尊重，男性应让女性坐在右侧；年轻人与年长者谈话时，应让年长者坐于右侧；未婚者让已婚者坐于右侧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（三）谈判座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举行谈判时，座次的安排也遵循这一原则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有两种不同的方法：一是谈判桌顺着门摆放，即把桌子窄的一头对着门，假设有一人进门后，面对室内而站，那么他的右手一边的座位为上座，是客人的，他的左手一边的座位就是主人一方的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谈判桌是横放于室内的，那么正对门的一侧是上座，是客人的，背对门一侧是主人的。谈判双方安排自己一方的座次时，依然遵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以右为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的礼节，即主谈人右侧的位置比左侧的高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142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四）主席台座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席坐于中间，其右侧的座位高于左侧的座位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发言人所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举行国际会议时，会议主席台上的座次排列，也是要讲求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以右为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”，主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的讲台也位于主席台的右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中国的传统曾经是“以左为尊”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这一礼节最为明显地保留在我国主席台的座次排列上，即主席坐于正中，第一副职坐于其左侧，第二副职坐于其右侧，以此类推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9907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（五）宴请座次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排列宴请的桌次、座次时，也是“以右为尊”。宴会厅里如果有两张圆桌，面对正门，右边的一桌为主桌。在排列具体的座次时，以面对正门的座位为主位，由主人坐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主宾一般应坐在主人的右侧，其他位次以距离主人越近越好，同等距离右侧高于左侧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前后位置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前后位置方面，一般以前面为尊，但也并非完全如此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行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走在前面的往往是职位高、年长者，特别是在各种典礼、仪式上。如果遇到人多拥挤之处，随从人员就要走在前面开路。秘书或接待人员在引领客人时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走在客人的左前方，约一步半的距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上下楼梯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楼时要让客人、尊长、上司、女性走在前面，下楼梯时，要让他们走在后面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761760"/>
            <a:ext cx="769608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Rounded MT Bold"/>
              </a:rPr>
              <a:t>3A</a:t>
            </a:r>
            <a:r>
              <a:rPr b="0" lang="zh-CN" sz="4000" spc="-1" strike="noStrike">
                <a:solidFill>
                  <a:srgbClr val="0000ff"/>
                </a:solidFill>
                <a:latin typeface="Arial Rounded MT Bold"/>
              </a:rPr>
              <a:t>原则：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把对别人的友善通过三种方式恰到好处地表达出来。（美）布吉林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cept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）接受对方：接受交往对象的交际礼仪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ppreciate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）重视对方：不让别人觉得受冷落。 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dmire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）赞美对方：实事求地赞美别人的长处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4" name="Picture 2" descr="http://p5.so.qhimgs1.com/bdr/_240_/t01d04a9e9859ae3d65.jpg"/>
          <p:cNvPicPr/>
          <p:nvPr/>
        </p:nvPicPr>
        <p:blipFill>
          <a:blip r:embed="rId1"/>
          <a:stretch/>
        </p:blipFill>
        <p:spPr>
          <a:xfrm>
            <a:off x="5562720" y="4705200"/>
            <a:ext cx="3581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三）乘坐电梯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有电梯工操作的则让客人、尊长、上司、女性先上后下。如果是自动升降电梯，那么，主人、年轻人、下级、男性先上，按住开门钮；下电梯时，主人等按住开门钮或挡住门，请客人先下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四）进出房门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一般来讲应该请客人、尊长等先进先出，必要时应该为他们推开或拉开房间的门开关。如果进出房门时，遇到与自己进出方向相反者，应当礼让。通常是欲进门者让欲出门者，即先出后入。如果看到对方是客人、尊长、女士，则让对方先行，可不遵前例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 Rounded MT Bold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五）座位排列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在人数较多的会议或典礼上，需要多行排列，位尊者、正式出席者排在前排，职位低者、列席者排在后面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三、中间和两侧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（一）行走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如果三人以上行走，应让位尊者走在中间。如果是两位女性与一位男性一起行走，男性应当走在最左边，这样，当他想和其中一位说话时，也会照顾到另一位，不会显得厚此薄彼。如果两位男性与一位女性一起行走，就应该让女性走在中间，使她更有安全感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（二）座位排列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一般来讲，</a:t>
            </a:r>
            <a:r>
              <a:rPr b="1" lang="zh-CN" sz="2400" spc="-1" strike="noStrike">
                <a:solidFill>
                  <a:srgbClr val="ff0000"/>
                </a:solidFill>
                <a:latin typeface="Arial Rounded MT Bold"/>
              </a:rPr>
              <a:t>越靠中间的座位越好</a:t>
            </a:r>
            <a:r>
              <a:rPr b="1" lang="zh-CN" sz="2400" spc="-1" strike="noStrike">
                <a:solidFill>
                  <a:srgbClr val="000000"/>
                </a:solidFill>
                <a:latin typeface="Arial Rounded MT Bold"/>
              </a:rPr>
              <a:t>。如果请客人观看演出，就要请主宾和主人坐在中间，而把两边的座位一定要留给主人一方的人去坐。如果几位男性和几位女性一起区看电影或演出，应该让女性坐中间，两边的座位由男性去坐，不要让女性挨着陌生人坐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周先生乘坐专车前往机场迎接来自德国的一位企业家施罗德先生。宾主相见，寒暄握手完毕，周先生便毕恭毕敬将施罗德先生让到了轿车前排的副驾驶员座上，而自己则就座于轿车的后排。让周先生没有料到的是，原本笑容可掬的施罗德先生竟然立刻面沉似冰，老大不高兴的样子。</a:t>
            </a: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请问原因是什么？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6840" y="3049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四、乘车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（一）乘小轿车的礼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小轿车，如果是由专职司机驾车，座位的位次由高到低依次排列为：后右、后左、后中、副驾驶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如果小轿车由主人亲自驾驶的话，座位的位次由高到低依次排列为：副驾驶、后右、后左、后中。后排座位比前排好是因为后排比较安全，并且在汽车靠右行驶的国家，从右边上下车是最方便的。所以人们认为后排右座为最尊位置。同理，在汽车靠左行驶的地方，后排左座才是最尊之位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要遵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</a:rPr>
              <a:t>不得纠正原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380520"/>
            <a:ext cx="48769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乘其他类型车的礼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吉普车：吉普车属于轻型越野客车，它的底盘比较高，不如小轿车平稳。不管由谁驾驶，它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上座都是副驾驶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然后是后排右座、后排左座。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多排客车：以司机为第一排，从第二排开始，越靠前靠右越好，依次为：第二排右座、中座、左座、第三排右座、中座、左座……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82" name="Picture 3" descr="Img2248083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5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请以小组为单位，自主设定商务情境，拍摄一段视频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视频应尽可能展现下列内容：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打领带、站姿、坐姿、称呼礼仪、握手礼仪、介绍礼仪、名片礼仪和方位礼仪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视频时长不低于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、视频拍摄好后请统一拷贝到学习委员的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盘中，下周一上课时展播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复习思考题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女秘书陪同一女士进入本公司会客厅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本公司一男士正在恭候。女秘书首先把男士介绍给客人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这是我们公司的陈总。”然后向自己人介绍客人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这是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××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公司的刘总。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　请分析以上情景中人物做法的正误。做法不对的错在哪里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应该怎么做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案例分析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　有一天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一名演讲家带着他的小儿子去拜访朋友。主人为父子俩倒完水后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转身去厨房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没走两步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只听到“砰”一声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靠近父亲的暖瓶突然爆了。主人慌忙折回来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问怎么回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有没有烫着。父亲连忙摇头说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没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没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刚才一不小心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脚踢着了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抱歉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抱歉。”主人连声说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哪里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只要人没烫着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一个暖瓶值什么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是日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相聚甚欢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在回家的路上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儿子不解地问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爸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刚才看得很清楚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是暖瓶自己爆了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为什么要说是你踢的呢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父亲微笑地问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如果换成是你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你会相信暖瓶自己爆吗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儿子想了想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摇摇头。“孩子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们说话一定要确定自己的目的。事出偶然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为了不引起朋友的怀疑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坦然接受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更有助于我们之间的关系。如果费力解释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还可能造成猜疑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他或者会想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就这点事还要骗我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这朋友值得交吗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父亲接着说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当然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不是教你为了目的而不择手段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说一些违心的话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只有在极特殊的情况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们可以变通一下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也是要为了一个善良的目的。”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　请问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你在日常的生活或工作中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是如何处理这类事件的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 称呼礼仪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57040" y="1523520"/>
            <a:ext cx="53341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一、姓名的种类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二、称呼的种类和用法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三、称呼的禁忌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案 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你知道我是谁吗？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一辆小轿车驶到，一男士下车。李华经理走上前，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您好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呈上自己的名片。又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，您好，我叫李华，是宏达集团的销售部经理，专程前来迎接您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道谢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另一名迎接人员张平上前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好！您认识我吧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点头。张平接着又问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那我是谁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王总尴尬不语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25T19:33:43Z</dcterms:created>
  <dc:creator/>
  <dc:description/>
  <dc:language>en-US</dc:language>
  <cp:lastModifiedBy>lilanying</cp:lastModifiedBy>
  <dcterms:modified xsi:type="dcterms:W3CDTF">2021-08-27T11:28:45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2.7.1.4479</vt:lpwstr>
  </property>
  <property fmtid="{D5CDD505-2E9C-101B-9397-08002B2CF9AE}" pid="3" name="Version">
    <vt:r8>1</vt:r8>
  </property>
</Properties>
</file>